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CB27B-DBBC-4FB3-B86F-3CFA28C0DA6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F6DF0C-817E-4CDA-BF8F-525FD6AE14B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01920"/>
            <a:ext cx="54864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Идея простая: в универсуме деятельности выделить те виды деятельности, которыми должен овладеть выпускник школы, и построить такую структуру урока и дидактические условия его организации, которая бы системно тренировала способности детей к осуществлению этих видов деятельност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Любая система деятельности, в том числе и система образования, функционирует в соответствии с целями, которые реально контролируются в данной системе. С этой точки зрения, исторический процесс развития школы можно наглядно представить в виде следующей схемы 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Многие противоречия современной системы образования, в том числе и указанные выше, связаны с тем, что мы находимся на этапе перехода от школы объяснения, или, как теперь ее принято называть, “традиционной” школы, к школе развивающего обучения: по целям образования, которые сегодня научно обоснованы, социально значимы и нормативно закреплены Законом “Об образовании”,  каждая школа должна стать школой развивающего обучения. А по реальной практике работы школ, системе подготовки и переподготовки кадров, средствам контроля результатов обучения мы в школе “знаниевого” типа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Переход к новой парадигме образования не может быть реализован без четкого и внятного ответа на вопрос “Как обучать?’. Учитель  должен получить конкретный и понятийно обоснованный алгоритм своей деятельности по подготовке и проведению уроков, который, с одной стороны, не разрушал бы его личный практический опыт, вписывался в уже имеющиеся у него представления о том, что хорошо для детей, что помогает ребенку стать успешным и счастливым в будущей его взрослой жизни. С другой стороны, этот инструмент должен включить в себя имеющиеся в педагогике и психологии научные звания об общих закономерностях эффективного развития детей, которые сегодня напоминают рассыпанную мозаику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1EB1-B82C-4C0A-AC35-55F346EDD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2D00-BC4E-49E8-9A53-E0982FCB4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1188-23A2-4DD0-AC34-281EE3D5F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C977-70BD-4884-B241-F9E7C4006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573F-6828-40B5-A05C-A1FF196CF8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462F-772C-4D09-BE95-2010DBEEFA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F8DD-322C-478F-8F01-2C45685722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880B-9C04-49DC-A1AC-0430E09EFB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43E7-5633-4D28-BE31-DB644E2C16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683A-B6B1-48D5-8BA2-9C1F57EEB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595A-7975-458C-9282-250B4BDB8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9D34-95E1-4851-8BF8-5EE16F205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6008-5287-44F4-9772-E55CC2F57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DD46-D4F4-4174-ACC2-C98C9F8BD2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5989-3A9D-4FFB-AC17-BF5987B22D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C13A-378A-43A2-A34B-04EA8A0916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4A0A-A8E0-4A9D-A885-9C09ECBFA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F5AF-A021-4E87-AAC5-7C24EC484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98F9-05B6-425C-A860-C96F09FC5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6214-BB75-433B-B0A6-512DC1777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D6C2-43E7-47D8-97C0-74F1C7945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AA45-DE97-4FB9-A09C-5565C504B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EC97-FBFC-4B0D-A5CC-38DB4CB04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BF32-9FF8-4217-8AB2-8590AFDA0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DBC43A-AFF8-425A-A9B4-4BF683C046A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  <a:ea typeface="Segoe UI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AFD8D-EE56-4B1D-A1CE-5ADFA672BE8B}" type="slidenum">
              <a:rPr b="0" lang="ru-RU" sz="1400" spc="-1" strike="noStrike">
                <a:solidFill>
                  <a:srgbClr val="578963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7640" y="2592360"/>
            <a:ext cx="8028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Типология учебных занятий на основе системно — деятельного подхода</a:t>
            </a:r>
            <a:br>
              <a:rPr sz="4400"/>
            </a:br>
            <a:br>
              <a:rPr sz="4800"/>
            </a:br>
            <a:br>
              <a:rPr sz="40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02640" y="-2454120"/>
            <a:ext cx="82440" cy="13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32000" y="5472000"/>
            <a:ext cx="64040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c2b"/>
                </a:solidFill>
                <a:latin typeface="Times New Roman"/>
              </a:rPr>
              <a:t>И.В. Раздымахо, заместитель директора по НМР </a:t>
            </a:r>
            <a:br>
              <a:rPr sz="2200"/>
            </a:br>
            <a:r>
              <a:rPr b="1" lang="ru-RU" sz="2200" spc="-1" strike="noStrike">
                <a:solidFill>
                  <a:srgbClr val="004c2b"/>
                </a:solidFill>
                <a:latin typeface="Times New Roman"/>
              </a:rPr>
              <a:t>МКОУ ДО ЦДТ МО Павловский район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Структура занятия </a:t>
            </a:r>
            <a:br>
              <a:rPr sz="4000"/>
            </a:b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с элементом исследования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1. Определение объекта исследов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2. Разработка плана исследов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3. Непосредственно исследовани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4. Оформление и представление конечного результат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Технология деятельностного </a:t>
            </a:r>
            <a:br>
              <a:rPr sz="3600"/>
            </a:b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метода обучения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1. Мотивация (самоопределение) к деятельност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2. Актуализация знаний и фиксация индивидуального затруднения в пробном действи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3. Выявление места и причины затрудне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4. Построение проекта выхода из затруднения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5. Реализация построенного проекта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6. Первичное закрепление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7. Самостоятельная работа с самопроверкой по эталону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8. Включение в систему знаний и повторение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9. Рефлексия учебной деятельност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476280"/>
            <a:ext cx="7772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62864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личностные результаты</a:t>
            </a: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формирование у детей нравственных чувств, самооценки, мотивации к обучению, творческому труду, бережному отношению к материальным и духовным ценностям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метапредметные результаты: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регулятивны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- умение ставить учебные задачи, планировать свое действие в соответствии с поставленной задачей и условиями ее реализации, осуществлять итоговый и пошаговый контроль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метапредметные результаты: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ознавательны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– формирование навыка решения творческих задач, навыка поиска, анализа и интерпретации информации; осуществлять поиск необходимой информации для выполнения заданий в учебной литературе, интернет-ресурса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метапредметные результаты: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оммуникативны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- умение выполнять различные роли в группе (лидера, исполнителя, критика); формулировать собственное мнение и позицию; договариваться и приходить к общему решению в совместной деятельности, в том числе в ситуации столкновения интерес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ровни результатов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1 уровень результатов -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ение ребенком социального знания об общественных нормах, об устройстве общества, о социально одобряемых и неодобряемых формах поведения в обществе и т.д. (с педагогом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2 уровень результат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- получение ребенком опыта переживания и позитивного отношения к базовым ценностям общества (с детским коллективом)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3 уровень результат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получение ребенком опыта самостоятельного общественного действия (с социальными субъектами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1413000"/>
            <a:ext cx="77011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спешность выпускника зависит от умения добывать информацию, работать с ней, регулирования отношений с социумом, ощущения себя гражданином нашего государства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76280"/>
            <a:ext cx="8280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Чем проповедь выслушивать, мне лучше бы взглянуть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И лучше проводить меня, чем указать мне путь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Глаза умнее слуха —поймут все без труда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Слова порой запутаны, пример же —никогда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Тот лучший проповедник, кто веру в жизнь провел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Добро увидеть в действии —вот лучшая из школ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И если все мне рассказать, я выучу урок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Но мне ясней движенье рук, чем быстрых слов поток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Должно быть можно верить и умным словесам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Но я уж лучше погляжу, что делаешь ты сам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Вдруг я неправильно пойму прекрасный твой сове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Зато пойму как ты живешь: по правде или не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Вечная детская мудрость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0" y="1849320"/>
            <a:ext cx="914400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cbe0f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Основа обучения в соответствии с ФГОС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8920" indent="-3574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Системно - деятельностный</a:t>
            </a:r>
            <a:r>
              <a:rPr b="1" lang="ru-RU" sz="4000" spc="-1" strike="noStrike">
                <a:solidFill>
                  <a:srgbClr val="bdd7e5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подхо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21000"/>
            <a:ext cx="9144000" cy="2448000"/>
          </a:xfrm>
          <a:prstGeom prst="rect">
            <a:avLst/>
          </a:prstGeom>
          <a:solidFill>
            <a:srgbClr val="cbe0f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Результат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развитие личности ребёнка на основе учебной деятельности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457200"/>
            <a:ext cx="7772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Базовые компетентности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нформационные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умение искать, анализировать, преобразовывать, применять информацию для решения проблем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коммуникативные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умение эффективно сотрудничать с другими людьми);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амоорганизация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умение ставить цели, планировать, ответственно относиться к здоровью, полноценно использовать личностные ресурсы);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амообразование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готовность конструировать и осуществлять собственную образовательную траекторию на протяжении всей жизни, обеспечивая успешность и конкурентоспособность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457200"/>
          <a:ext cx="7773480" cy="5760720"/>
        </p:xfrm>
        <a:graphic>
          <a:graphicData uri="http://schemas.openxmlformats.org/drawingml/2006/table">
            <a:tbl>
              <a:tblPr/>
              <a:tblGrid>
                <a:gridCol w="3422880"/>
                <a:gridCol w="4350600"/>
              </a:tblGrid>
              <a:tr h="70344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-ДЕЯТЕЛЬНОСТНЫЙ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обучения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знаний, умений, навыков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ждого ребёнк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84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епродуктивные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делай как я)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ктивное усвоение знаний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делайте, я с вами)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пособы усвоения материала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, запомина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мостоятельное получение знаний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зиция педагога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12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пози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нсультант, т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зиция ученика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ный исполнител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ктивный деятел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457200"/>
            <a:ext cx="7772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Содержание программы дополнительного образов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ссчитано в одинаковой мере и на сильного ученика, и на слабого, то есть дифференцированно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риентировано на развитие личности ребенка и носит деятельностный характер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направлено на духовно-нравственное воспитание и обеспечение социализации учащихс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457200"/>
            <a:ext cx="7772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41360"/>
            <a:ext cx="798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Формирование социально-необходимых знаний и навыков учащихся: развитие умений самостоятельно строить свою жизнь, адаптироваться к социальным условиям, быть активной личностью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звитие познавательного интереса у детей, творческих способностей, самостоятельности учащихс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Формирование нравственных чувств учащихс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Структура занятия </a:t>
            </a: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с созданием проблемной ситуации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28640"/>
            <a:ext cx="7989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1.Создание проблемной ситуации педагогом, формулирование проблемы обучающимис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2.Актулизация обучающимися своих знани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3.Поиск решения проблемы обучающимис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4.Выражение реше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5.Применение знаний обучающимис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2:25:31Z</dcterms:created>
  <dc:creator>Анастасия</dc:creator>
  <dc:description/>
  <dc:language>en-US</dc:language>
  <cp:lastModifiedBy/>
  <dcterms:modified xsi:type="dcterms:W3CDTF">2019-12-03T06:53:21Z</dcterms:modified>
  <cp:revision>75</cp:revision>
  <dc:subject/>
  <dc:title>Системно - деятельностный подход в дополнительном образовании</dc:title>
</cp:coreProperties>
</file>